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207-D2C6-4CD2-804C-8B461716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846-922E-40D0-A9BD-6EC207F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09F-9738-400C-9018-4C2D63EA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4DA-D66A-42AE-BE0C-27D05C81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767-2924-44FF-A7DE-E487296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446-9EAD-4587-93EB-5885B1B4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76F-7721-4F87-B3CC-D0A9A0CE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DEB-9C79-437A-BAE0-C1B944F7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532-614A-450A-96C4-6617E7D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959-B1DE-43D2-99C4-3C5313B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5BD-18E5-4103-AEE7-A8C6D58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D0F-701B-48BA-8568-7312987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F42-E259-461A-BCBB-36D79066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query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56272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6400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lifornian FB"/>
              </a:rPr>
              <a:t>Fluff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6095880"/>
            <a:ext cx="4724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ky Dun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query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281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1066680" y="50914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8672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u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que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7339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luff is a great treat to put on a sandwich with peanut butter or even by itself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is made only of corn-syrup, sugar, dried egg whites, and vanil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ong time ago it was used for dressing up f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is sent to 18 nations in the worl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uff had its own radio show called “Flufferetts” in the 193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fter Fluffs recipe was sold to another company, they came up with a Fluffer nutter, which is our present day peanut and fluff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ll owned by Durke-M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38088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Invention: Fluff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 was a resident in Summerville,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Query created Fluff in 1917 in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 was made in his very own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ventfully, he sold the product to another company and had nothing to do with it eve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30492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Inventor: Archibald Quer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6Z</dcterms:created>
  <dc:creator>install</dc:creator>
  <dc:description/>
  <dc:language>en-US</dc:language>
  <cp:lastModifiedBy>install</cp:lastModifiedBy>
  <dcterms:modified xsi:type="dcterms:W3CDTF">2010-05-12T17:35:11Z</dcterms:modified>
  <cp:revision>21</cp:revision>
  <dc:subject/>
  <dc:title>Slide 1</dc:title>
</cp:coreProperties>
</file>